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F3C7-B3A3-4154-BFB1-F349A389C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13AD-7C2B-4513-8624-56C8CCD2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FFD5-6729-4403-9547-0EFA98EA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8301-AB05-4154-9C6B-E7C39232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853A-52F5-4DDA-8800-467886CE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1A6A-4D77-499E-AB79-D2E88C16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7C12-A3EA-4862-9550-6288BBD4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44C9-477B-4082-A712-CD849A51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E75E-6066-4767-AD6F-9BDB816F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1AC0-E9B8-40AE-BF78-284D60BC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2CE3-658E-4011-A89E-A865C9FC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3695-1E57-495D-AB1F-5240116E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C095-093C-42D4-8EF6-62C534BFE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9600" y="663480"/>
            <a:ext cx="1676520" cy="998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4648320"/>
            <a:ext cx="1067040" cy="9903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5960" y="1700280"/>
            <a:ext cx="1066680" cy="990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666880"/>
            <a:ext cx="1067040" cy="9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657600"/>
            <a:ext cx="106704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5638680"/>
            <a:ext cx="106704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1195 A.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Aztecs settl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Valley of Mex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Move ahea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92360" y="5656320"/>
            <a:ext cx="1066680" cy="9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5638680"/>
            <a:ext cx="106668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5638680"/>
            <a:ext cx="1067040" cy="9907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5638680"/>
            <a:ext cx="106668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76920" y="4648320"/>
            <a:ext cx="1066680" cy="990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76920" y="3657600"/>
            <a:ext cx="1066680" cy="9907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79800" y="2660760"/>
            <a:ext cx="1067040" cy="990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9800" y="1662120"/>
            <a:ext cx="106704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Lose tlacht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Move back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685800"/>
            <a:ext cx="106668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43600" y="685800"/>
            <a:ext cx="1066680" cy="9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685800"/>
            <a:ext cx="1067040" cy="9907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077320" y="685800"/>
            <a:ext cx="106668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30520" y="3313080"/>
            <a:ext cx="3014640" cy="65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Papyrus"/>
              </a:rPr>
              <a:t>The Aztecs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Papyrus"/>
              <a:ea typeface="Papyru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146640" y="2776680"/>
            <a:ext cx="2819520" cy="1600200"/>
            <a:chOff x="6146640" y="2776680"/>
            <a:chExt cx="2819520" cy="1600200"/>
          </a:xfrm>
        </p:grpSpPr>
        <p:sp>
          <p:nvSpPr>
            <p:cNvPr id="61" name=""/>
            <p:cNvSpPr/>
            <p:nvPr/>
          </p:nvSpPr>
          <p:spPr>
            <a:xfrm>
              <a:off x="6222960" y="3081240"/>
              <a:ext cx="25905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Papyrus"/>
                </a:rPr>
                <a:t>Gam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Papyrus"/>
                </a:rPr>
                <a:t>Car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146640" y="2776680"/>
              <a:ext cx="2819520" cy="160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8839080" y="892080"/>
            <a:ext cx="914400" cy="60984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44680" y="1047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37480" y="5388120"/>
            <a:ext cx="1744560" cy="936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5960" y="1662120"/>
            <a:ext cx="1000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1111 A.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Leave Azt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Move ahead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728800" y="5656320"/>
            <a:ext cx="1036800" cy="960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4879800" y="5656320"/>
            <a:ext cx="1036800" cy="960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94320" y="4811760"/>
            <a:ext cx="158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1325 A.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Build Tenochtit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Move ahea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615960" y="3659040"/>
            <a:ext cx="1036800" cy="960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4917960" y="3659040"/>
            <a:ext cx="1036800" cy="960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7029360" y="701640"/>
            <a:ext cx="103680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06668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76400" y="3621240"/>
            <a:ext cx="1066680" cy="990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685800"/>
            <a:ext cx="1067040" cy="9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1676520"/>
            <a:ext cx="1067040" cy="9903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2666880"/>
            <a:ext cx="106704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4648320"/>
            <a:ext cx="1067040" cy="990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5638680"/>
            <a:ext cx="106704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1502 A.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Montezum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becomes empe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Move ahea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5638680"/>
            <a:ext cx="1066680" cy="9907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5638680"/>
            <a:ext cx="1066680" cy="9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67080" y="5638680"/>
            <a:ext cx="1067040" cy="9907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4648320"/>
            <a:ext cx="1067040" cy="99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67080" y="3657600"/>
            <a:ext cx="106704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Tribe conqu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Must pay t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Move back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2666880"/>
            <a:ext cx="1067040" cy="9907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1676520"/>
            <a:ext cx="1067040" cy="990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Corn, bean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peppers, potat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grow 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Move ahea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685800"/>
            <a:ext cx="1067040" cy="9907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34120" y="685800"/>
            <a:ext cx="1066680" cy="9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685800"/>
            <a:ext cx="106668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1519 A.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Cortes arr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Go back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67480" y="685800"/>
            <a:ext cx="106704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45280" y="3659040"/>
            <a:ext cx="1676520" cy="9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91240" y="2660760"/>
            <a:ext cx="1067040" cy="9903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1676520"/>
            <a:ext cx="1067040" cy="990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14640" y="2660760"/>
            <a:ext cx="1066680" cy="990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2666880"/>
            <a:ext cx="1066680" cy="9907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62320" y="2895480"/>
            <a:ext cx="685800" cy="533520"/>
          </a:xfrm>
          <a:prstGeom prst="rightArrow">
            <a:avLst>
              <a:gd name="adj1" fmla="val 50000"/>
              <a:gd name="adj2" fmla="val 3213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2895480"/>
            <a:ext cx="685800" cy="533520"/>
          </a:xfrm>
          <a:prstGeom prst="rightArrow">
            <a:avLst>
              <a:gd name="adj1" fmla="val 50000"/>
              <a:gd name="adj2" fmla="val 3213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10800" y="4849920"/>
            <a:ext cx="1187280" cy="1447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-457200" y="898560"/>
            <a:ext cx="914400" cy="609480"/>
          </a:xfrm>
          <a:prstGeom prst="rightArrow">
            <a:avLst>
              <a:gd name="adj1" fmla="val 50000"/>
              <a:gd name="adj2" fmla="val 37507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306520" y="3774960"/>
            <a:ext cx="1766880" cy="1766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799320" y="4849920"/>
            <a:ext cx="2149560" cy="1866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038240" y="3851280"/>
            <a:ext cx="1190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1440 A.D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Montezuma rules Azte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Move ahead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1076400" y="701640"/>
            <a:ext cx="1036440" cy="960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1076400" y="4657680"/>
            <a:ext cx="1036440" cy="960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4303800" y="5656320"/>
            <a:ext cx="1036440" cy="960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4264200" y="701640"/>
            <a:ext cx="1036440" cy="960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7451640" y="1700280"/>
            <a:ext cx="103680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02:40:31Z</dcterms:created>
  <dc:creator>Connie Campbell</dc:creator>
  <dc:description/>
  <dc:language>en-US</dc:language>
  <cp:lastModifiedBy>Kathy</cp:lastModifiedBy>
  <dcterms:modified xsi:type="dcterms:W3CDTF">2010-04-16T21:03:08Z</dcterms:modified>
  <cp:revision>13</cp:revision>
  <dc:subject/>
  <dc:title>Slide 1</dc:title>
</cp:coreProperties>
</file>